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C23-C143-430C-982B-27AAC2E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8BA-0363-43A7-8DE0-CA859098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198-8E30-4ADB-ADCC-578E587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0B9-1B24-448B-929C-29136A8D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CE9-E66C-4E64-B9B1-2B78F11F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B20-CA70-42FA-AEF5-3F51A04F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EDF-4F36-4385-832D-C86EFEE5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C82-70EC-4A09-99C9-46078B8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646-F5C8-458D-963B-C99E80C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BC9-6285-4698-9D78-918CE1C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FCA-9A78-4896-B76C-099C71D3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95F-B091-4FFA-983F-5D9362A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9563-14D9-4AC8-8BDD-9A4FE675B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во 2 класс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етвер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813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1516"/>
                </a:solidFill>
                <a:latin typeface="Monotype Corsiva"/>
                <a:ea typeface="Times New Roman"/>
              </a:rPr>
              <a:t>16 октября 202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итель: Дениско Елена Александ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ертить  отрезок заданной длины и измерять данный отрез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ть, записывать и сравнивать числа в пределах 10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ходить сумму и разность чисел в пределах 100; в более легких случаях устно, в более сложных – письмен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ходить значения числовых выражений в 2 действия, содержащих сложение и вычитание (со скобками и без них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1.bp.blogspot.com/-e2ukMNRjamQ/XdwZvu1FzRI/AAAAAAAABzw/uODZ8pPckQ8DsLmjlpp8VID_tR38H2cXQCLcBGAsYHQ/s1600/6835552.jpeg"/>
          <p:cNvPicPr/>
          <p:nvPr/>
        </p:nvPicPr>
        <p:blipFill>
          <a:blip r:embed="rId1"/>
          <a:stretch/>
        </p:blipFill>
        <p:spPr>
          <a:xfrm>
            <a:off x="0" y="44280"/>
            <a:ext cx="802800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 (524x700, 284Kb)"/>
          <p:cNvPicPr/>
          <p:nvPr/>
        </p:nvPicPr>
        <p:blipFill>
          <a:blip r:embed="rId1"/>
          <a:stretch/>
        </p:blipFill>
        <p:spPr>
          <a:xfrm>
            <a:off x="179280" y="260280"/>
            <a:ext cx="3200400" cy="427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 (518x700, 300Kb)"/>
          <p:cNvPicPr/>
          <p:nvPr/>
        </p:nvPicPr>
        <p:blipFill>
          <a:blip r:embed="rId2"/>
          <a:stretch/>
        </p:blipFill>
        <p:spPr>
          <a:xfrm>
            <a:off x="3564000" y="260280"/>
            <a:ext cx="3168720" cy="4275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ка чтения в 2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7840" y="1125360"/>
            <a:ext cx="8300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к чт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лугод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го класса чтение осознанное, правильное, целыми словами. Допускается прочитывание по слогам слов, имеющих сложную слоговую струк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лугод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равильного, осознанного чтения целыми словами, дети должны также соблюдать паузы, интонации, логические ударения. Слоговое чтение нежелат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ценивание техники чтения во втором классе по ФГО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1730520"/>
          <a:ext cx="6696000" cy="2103120"/>
        </p:xfrm>
        <a:graphic>
          <a:graphicData uri="http://schemas.openxmlformats.org/drawingml/2006/table">
            <a:tbl>
              <a:tblPr/>
              <a:tblGrid>
                <a:gridCol w="1116000"/>
                <a:gridCol w="2639880"/>
                <a:gridCol w="294012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55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70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5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-70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9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4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25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40 с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2"/>
          <p:cNvSpPr/>
          <p:nvPr/>
        </p:nvSpPr>
        <p:spPr>
          <a:xfrm>
            <a:off x="-123120" y="-82476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вание техники чтения во втором классе по ФГ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ма техники чтения 1 четвер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484280"/>
          <a:ext cx="5976720" cy="2521080"/>
        </p:xfrm>
        <a:graphic>
          <a:graphicData uri="http://schemas.openxmlformats.org/drawingml/2006/table">
            <a:tbl>
              <a:tblPr/>
              <a:tblGrid>
                <a:gridCol w="1503360"/>
                <a:gridCol w="1522440"/>
                <a:gridCol w="1771560"/>
                <a:gridCol w="1179360"/>
              </a:tblGrid>
              <a:tr h="1260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5 "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4"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3"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2"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60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- 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4360" y="404640"/>
          <a:ext cx="5133960" cy="4408560"/>
        </p:xfrm>
        <a:graphic>
          <a:graphicData uri="http://schemas.openxmlformats.org/drawingml/2006/table">
            <a:tbl>
              <a:tblPr/>
              <a:tblGrid>
                <a:gridCol w="671400"/>
                <a:gridCol w="619200"/>
                <a:gridCol w="636480"/>
                <a:gridCol w="671400"/>
                <a:gridCol w="743040"/>
                <a:gridCol w="777960"/>
                <a:gridCol w="1014480"/>
              </a:tblGrid>
              <a:tr h="4971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71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4971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5 "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4"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3"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2"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78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- 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08000" y="549360"/>
          <a:ext cx="6119640" cy="2519280"/>
        </p:xfrm>
        <a:graphic>
          <a:graphicData uri="http://schemas.openxmlformats.org/drawingml/2006/table">
            <a:tbl>
              <a:tblPr/>
              <a:tblGrid>
                <a:gridCol w="662040"/>
                <a:gridCol w="3352680"/>
                <a:gridCol w="1104840"/>
                <a:gridCol w="1000080"/>
              </a:tblGrid>
              <a:tr h="630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чтения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нор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 (35-45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же нор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итие интереса к чт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те яркие книги с красивыми картинками и крупным шрифтом. У детей есть привычка сначала полистать книгу, и, если ребенок увидит красочные изображения на страницах, его интерес возраст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больших книг с обилием текста на каждой странице. Переизбыток информации препятствует детскому восприятию. Важно, чтобы ребенок мог чаще перелистывать странички — это создает ощущение динамики и удерживает внимание к книг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1116000" y="1125360"/>
            <a:ext cx="574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йте небольшие произведения, лучше всего приключенческих жанрах, — детям нравятся захватывающие истории. Хорошо, когда героями книги становятся сказочные персонажи, животные или дети-школьники, — ваш ребенок будет в восторг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вестка собр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ые итоги 1 четвер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ый график на 2020-2021уч.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организации учеб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ение правил техники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476360" y="765000"/>
            <a:ext cx="538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и для детей должны соответствовать их возрасту, а значит, быть яркими, несложными для восприятия и в то же время нести «зерно» знаний, то есть пополнять словарный запас ребенка, расширять его кругозо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мая литература для чтения в 2 класс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А.С.Пуш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 К.И.Чу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.Я.Марш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Е.Чарушина, В.Бианки, М.Пришвина, В.Сут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зы Н.Носова«Мишкина каша», «Живая шляпа»., В. Драгунского «Денискины рассказ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одные сказки и сказки зарубежных ав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ружающий  ми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обенности природы своего края; изменения в природе и труде людей по временам года; особенности охраны здоровья в разные времена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неживая и живая; растения дикорастущие и культурные; животные дикие и домаш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ведения на улицах и дорогах, в общественных мес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организации учебного процес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колу приходить без опо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рнуть учебники и тетради облож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товность к уро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3" descr=""/>
          <p:cNvPicPr/>
          <p:nvPr/>
        </p:nvPicPr>
        <p:blipFill>
          <a:blip r:embed="rId1"/>
          <a:srcRect l="0" t="6681" r="41851" b="0"/>
          <a:stretch/>
        </p:blipFill>
        <p:spPr>
          <a:xfrm>
            <a:off x="179280" y="333360"/>
            <a:ext cx="7993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ый график на 2020-2021уч.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8487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изошли изменения в графике осенних канику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о с 26.10.2020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колу 09.11.2020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на время каник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заданий, предложенных уч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ение правил техники безопасности  и охраны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45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Безопасность детей в дни осенних канику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89"/>
          <p:cNvSpPr/>
          <p:nvPr/>
        </p:nvSpPr>
        <p:spPr>
          <a:xfrm>
            <a:off x="179280" y="1700280"/>
            <a:ext cx="58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Правила поведения на доро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2) Пожарная безопас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3) Электробезопас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4) Тонкий лёд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5) Правила поведения на Ж\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6) Правила поведения в транспор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Важно! Родители контролируют ребенка – где, с кем, что дела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Ребенок соблюдает режим дня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75" descr="https://im0-tub-ru.yandex.net/i?id=84b6a0ffb2abf88d3431115fa5d8790c-l&amp;n=13"/>
          <p:cNvPicPr/>
          <p:nvPr/>
        </p:nvPicPr>
        <p:blipFill>
          <a:blip r:embed="rId1"/>
          <a:srcRect l="21224" t="0" r="22018" b="0"/>
          <a:stretch/>
        </p:blipFill>
        <p:spPr>
          <a:xfrm>
            <a:off x="6280200" y="1566720"/>
            <a:ext cx="2863800" cy="2887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7" descr="F:\Охрана труда (новое)\картинки по правилам ПБ и ТБ\Техника безопасности и поведения\semja.jpg"/>
          <p:cNvPicPr/>
          <p:nvPr/>
        </p:nvPicPr>
        <p:blipFill>
          <a:blip r:embed="rId2"/>
          <a:stretch/>
        </p:blipFill>
        <p:spPr>
          <a:xfrm>
            <a:off x="684360" y="3625920"/>
            <a:ext cx="302400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http://maou19mgo.ucoz.ru/prof/buklet_koronavirus_1.jpg"/>
          <p:cNvPicPr/>
          <p:nvPr/>
        </p:nvPicPr>
        <p:blipFill>
          <a:blip r:embed="rId1"/>
          <a:stretch/>
        </p:blipFill>
        <p:spPr>
          <a:xfrm>
            <a:off x="34920" y="189000"/>
            <a:ext cx="78390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и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етвер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92120" y="1197000"/>
          <a:ext cx="6095880" cy="1650960"/>
        </p:xfrm>
        <a:graphic>
          <a:graphicData uri="http://schemas.openxmlformats.org/drawingml/2006/table">
            <a:tbl>
              <a:tblPr/>
              <a:tblGrid>
                <a:gridCol w="1752480"/>
                <a:gridCol w="2311560"/>
                <a:gridCol w="203184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личники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рошис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,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,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«4»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«3» -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«3» -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6"/>
          <p:cNvSpPr/>
          <p:nvPr/>
        </p:nvSpPr>
        <p:spPr>
          <a:xfrm>
            <a:off x="250920" y="2924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2 месяца учебной деятельности-период «острой адаптац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80" y="620280"/>
            <a:ext cx="626436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доровья всем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Берегите себя и близких!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Успехов в воспитани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4038480" cy="2016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1"/>
          <p:cNvSpPr/>
          <p:nvPr/>
        </p:nvSpPr>
        <p:spPr>
          <a:xfrm>
            <a:off x="1619280" y="310500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афик консультац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1773360"/>
          <a:ext cx="7200720" cy="2712960"/>
        </p:xfrm>
        <a:graphic>
          <a:graphicData uri="http://schemas.openxmlformats.org/drawingml/2006/table">
            <a:tbl>
              <a:tblPr/>
              <a:tblGrid>
                <a:gridCol w="2728800"/>
                <a:gridCol w="2728800"/>
                <a:gridCol w="17431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нь неде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0-17.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-12.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00080"/>
            <a:ext cx="7848360" cy="67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ть на вопросы учителя к тексту произведения, находить в тексте предложения, которые подтверждали бы высказанную мысл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ть  на предварительные вопросы к тексту, поставленные учителем перед чтени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 формулировать вопросы к текс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ь  текст на части, самостоятельно озаглавливать ча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ть  основную мысль текста (частей текста), соотносить основную мысль и заглавие тек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410920" y="1052640"/>
            <a:ext cx="7775640" cy="62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8000" y="18900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о  пересказывать небольшие произведения или отдельные эпизоды с соблюдением логики излож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о  пересказывать текст с использованием слов, выражений из тек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учивать  наизусть и читать стихотворения и небольшие отрывки прозы (3-7 предложений) с соблюдением интонации, тона, темпа и громкости речи, соответствующих содержанию тек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240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 язы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ые сл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-Ши, Ча-Ща, Чу-Щ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ь  большую букву в именах, фамилиях, названиях городов, деревень, кличках живот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значность и многозначность слов, прямое и переносное значение слов, синонимы и антони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рение, перенос слов,  деление на сл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изводить  фонетический разб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мматическая основа предложения (подлежащее и сказуем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коренные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44280"/>
            <a:ext cx="66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лиграфически  правильно писать слова, предложения, тексты в 35-45 слов без пропусков, вставок, искажений бук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 большую букву в начале предложения, ставить точку, вопросительный и восклицательный знак в конце пред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ь  изложение текста в 40-55 слов по вопро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ь сочинение составлять и записывать 2-3 предложения на заданную т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s://ic.pics.livejournal.com/info_uchitel/84964201/818/818_original.jpg"/>
          <p:cNvPicPr/>
          <p:nvPr/>
        </p:nvPicPr>
        <p:blipFill>
          <a:blip r:embed="rId1"/>
          <a:stretch/>
        </p:blipFill>
        <p:spPr>
          <a:xfrm>
            <a:off x="0" y="0"/>
            <a:ext cx="8675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 простых задач в 1дейст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ставных задач в 2 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к задачам краткого условия, схематического чертеж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и-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- 4           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уга 3"/>
          <p:cNvSpPr/>
          <p:nvPr/>
        </p:nvSpPr>
        <p:spPr>
          <a:xfrm rot="19331400">
            <a:off x="2622600" y="4035240"/>
            <a:ext cx="1587600" cy="1360440"/>
          </a:xfrm>
          <a:custGeom>
            <a:avLst/>
            <a:gdLst/>
            <a:ahLst/>
            <a:rect l="l" t="t" r="r" b="b"/>
            <a:pathLst>
              <a:path stroke="0" w="1587500" h="1360488">
                <a:moveTo>
                  <a:pt x="950482" y="13393"/>
                </a:moveTo>
                <a:cubicBezTo>
                  <a:pt x="1320998" y="77352"/>
                  <a:pt x="1587500" y="356334"/>
                  <a:pt x="1587500" y="680244"/>
                </a:cubicBezTo>
                <a:lnTo>
                  <a:pt x="793750" y="680244"/>
                </a:lnTo>
                <a:lnTo>
                  <a:pt x="950482" y="13393"/>
                </a:lnTo>
                <a:close/>
              </a:path>
              <a:path fill="none" w="1587500" h="1360488">
                <a:moveTo>
                  <a:pt x="950482" y="13393"/>
                </a:moveTo>
                <a:cubicBezTo>
                  <a:pt x="1320998" y="77352"/>
                  <a:pt x="1587500" y="356334"/>
                  <a:pt x="1587500" y="680244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уга 4"/>
          <p:cNvSpPr/>
          <p:nvPr/>
        </p:nvSpPr>
        <p:spPr>
          <a:xfrm rot="19331400">
            <a:off x="3587760" y="3992040"/>
            <a:ext cx="1968480" cy="1752840"/>
          </a:xfrm>
          <a:custGeom>
            <a:avLst/>
            <a:gdLst/>
            <a:ahLst/>
            <a:rect l="l" t="t" r="r" b="b"/>
            <a:pathLst>
              <a:path stroke="0" w="1968500" h="1752600">
                <a:moveTo>
                  <a:pt x="984250" y="0"/>
                </a:moveTo>
                <a:cubicBezTo>
                  <a:pt x="1518479" y="0"/>
                  <a:pt x="1955171" y="379422"/>
                  <a:pt x="1968207" y="854916"/>
                </a:cubicBezTo>
                <a:lnTo>
                  <a:pt x="984250" y="876300"/>
                </a:lnTo>
                <a:lnTo>
                  <a:pt x="984250" y="0"/>
                </a:lnTo>
                <a:close/>
              </a:path>
              <a:path fill="none" w="1968500" h="1752600">
                <a:moveTo>
                  <a:pt x="984250" y="0"/>
                </a:moveTo>
                <a:cubicBezTo>
                  <a:pt x="1518479" y="0"/>
                  <a:pt x="1955171" y="379422"/>
                  <a:pt x="1968207" y="854916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уга 5"/>
          <p:cNvSpPr/>
          <p:nvPr/>
        </p:nvSpPr>
        <p:spPr>
          <a:xfrm rot="8632800">
            <a:off x="2782800" y="2050200"/>
            <a:ext cx="3417840" cy="2643480"/>
          </a:xfrm>
          <a:custGeom>
            <a:avLst/>
            <a:gdLst/>
            <a:ahLst/>
            <a:rect l="l" t="t" r="r" b="b"/>
            <a:pathLst>
              <a:path stroke="0" w="3417888" h="2643188">
                <a:moveTo>
                  <a:pt x="1708944" y="0"/>
                </a:moveTo>
                <a:cubicBezTo>
                  <a:pt x="2634072" y="0"/>
                  <a:pt x="3391226" y="569314"/>
                  <a:pt x="3417214" y="1284470"/>
                </a:cubicBezTo>
                <a:lnTo>
                  <a:pt x="1708944" y="1321594"/>
                </a:lnTo>
                <a:lnTo>
                  <a:pt x="1708944" y="0"/>
                </a:lnTo>
                <a:close/>
              </a:path>
              <a:path fill="none" w="3417888" h="2643188">
                <a:moveTo>
                  <a:pt x="1708944" y="0"/>
                </a:moveTo>
                <a:cubicBezTo>
                  <a:pt x="2634072" y="0"/>
                  <a:pt x="3391226" y="569314"/>
                  <a:pt x="3417214" y="1284470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067280" y="479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545000" y="36496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473280" y="361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Дениско</cp:lastModifiedBy>
  <dcterms:modified xsi:type="dcterms:W3CDTF">2020-10-16T12:57:33Z</dcterms:modified>
  <cp:revision>70</cp:revision>
  <dc:subject/>
  <dc:title>Презентация PowerPoint</dc:title>
</cp:coreProperties>
</file>